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1371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18284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1371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1371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18284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8284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1371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1371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1371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18284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8284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1371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8284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1371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18284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1371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"/>
          <p:cNvSpPr/>
          <p:nvPr/>
        </p:nvSpPr>
        <p:spPr>
          <a:xfrm>
            <a:off x="609480" y="380880"/>
            <a:ext cx="830592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763120" y="228600"/>
            <a:ext cx="0" cy="617220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8080" y="152280"/>
            <a:ext cx="2667240" cy="3812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XML-D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99"/>
                </a:solidFill>
                <a:latin typeface="Verdana"/>
              </a:rPr>
              <a:t>XML-DTD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28195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inführung in die Syntax d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ML Document Type Defini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57150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efan Heyman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ittelberger GmbH, Reutlingen, www.kittelberger.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685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ntwickler-Konferenz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DTD-Deklar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Eine DTD kann beliebige Kommentare und PIs enthalt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Externe DTDs sollten mit einer „Text Declaration“ beginn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"/>
          <p:cNvSpPr/>
          <p:nvPr/>
        </p:nvSpPr>
        <p:spPr>
          <a:xfrm>
            <a:off x="1144800" y="4419720"/>
            <a:ext cx="61243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Syn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?xml version="1.0" encoding="UTF-8" 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Interne DTD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Der interne Teil der DTD steht in [eckigen Klammern]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Er ist op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Seine Deklarationen überschreiben bzw. ergänzen diejenigen der externen DT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25320" y="1752480"/>
            <a:ext cx="6064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Verdana"/>
              </a:rPr>
              <a:t>Bausteine der DT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DTD-Baustein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Mögliche </a:t>
            </a: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Elemen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Anordnung</a:t>
            </a: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 der Elemente (Schachtelung, Reihenfolge, Anzahl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Attribute</a:t>
            </a: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 der Elemen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Entities</a:t>
            </a: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 (Textbaustein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Element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"/>
          <p:cNvSpPr/>
          <p:nvPr/>
        </p:nvSpPr>
        <p:spPr>
          <a:xfrm>
            <a:off x="664920" y="1174680"/>
            <a:ext cx="7861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Syn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</a:rPr>
              <a:t>&lt;!ELEMENT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name inhalt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MPTY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lement ist immer l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NY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eliebiger Inha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(#PCDATA)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Nur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(#PCDATA | e1 | e2)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Nur Text oder e1 oder 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(e1, e2|e3, e4*, e5+, e6?|e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Beispie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!ELEMENT br EMPT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!ELEMENT absatz AN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!ELEMENT header (#PCDATA)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!ELEMENT buyer (name, address+, phone?)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Attribut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Zu jedem Element wird definiert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elche Attribute es gibt (Nam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Datentyp der Attribu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Default-Wert der Attribu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"/>
          <p:cNvSpPr/>
          <p:nvPr/>
        </p:nvSpPr>
        <p:spPr>
          <a:xfrm>
            <a:off x="759240" y="4419720"/>
            <a:ext cx="548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Syn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</a:rPr>
              <a:t>&lt;!ATTLIST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element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name typ default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</a:rPr>
              <a:t>&gt;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Attribute: Type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"/>
          <p:cNvSpPr/>
          <p:nvPr/>
        </p:nvSpPr>
        <p:spPr>
          <a:xfrm>
            <a:off x="1026720" y="1828800"/>
            <a:ext cx="758736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CDATA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eliebiger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D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in XML-Bezeich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DREF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ezug auf im Dokument vorhandene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DREF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ehrere IDREF‘s, durch [SP] getren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NTITY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Name einer 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NTITIE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ehrere ENTITY‘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NMTOKEN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ehrere Name-Token (1 2 3 4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num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ufzählung (left | right | top | bott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NOTATION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uflistung von Notations-Na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Attribute: Defaul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'default'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irekte Angabe des Defaul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#REQUIRED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ttribut </a:t>
            </a:r>
            <a:r>
              <a:rPr b="0" i="1" lang="de-DE" sz="2400" spc="-1" strike="noStrike">
                <a:solidFill>
                  <a:srgbClr val="000000"/>
                </a:solidFill>
                <a:latin typeface="Verdana"/>
              </a:rPr>
              <a:t>mus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ang. werd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#IMPLIED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efault-Wert wird v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pplikation eingesetz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#FIXED 'xxx'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s darf nur der angegeben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ert verwendet werd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Attribute: Beispie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&lt;!ATTLIST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000" spc="-1" strike="noStrike">
                <a:solidFill>
                  <a:srgbClr val="3333cc"/>
                </a:solidFill>
                <a:latin typeface="Courier New"/>
              </a:rPr>
              <a:t>absat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valign (top|center|bottom) 'top'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halign (left|cntr|right|block) #IMPLI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borderleft NMTOKEN '0'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&lt;!ATTLIST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000" spc="-1" strike="noStrike">
                <a:solidFill>
                  <a:srgbClr val="3333cc"/>
                </a:solidFill>
                <a:latin typeface="Courier New"/>
              </a:rPr>
              <a:t>im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rc CDATA #REQUIR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alt CDATA 'Image not found' 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Entiti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Entities sind Textbaustei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Vom einzelnen Zeichen bis zum kompletten externen Doku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Aufruf durch  </a:t>
            </a:r>
            <a:r>
              <a:rPr b="1" lang="de-DE" sz="3200" spc="-1" strike="noStrike">
                <a:solidFill>
                  <a:srgbClr val="ff0000"/>
                </a:solidFill>
                <a:latin typeface="Courier New"/>
              </a:rPr>
              <a:t>&amp;</a:t>
            </a:r>
            <a:r>
              <a:rPr b="1" lang="de-DE" sz="3200" spc="-1" strike="noStrike">
                <a:solidFill>
                  <a:srgbClr val="3333cc"/>
                </a:solidFill>
                <a:latin typeface="Courier New"/>
              </a:rPr>
              <a:t>name</a:t>
            </a:r>
            <a:r>
              <a:rPr b="1" lang="de-DE" sz="3200" spc="-1" strike="noStrike">
                <a:solidFill>
                  <a:srgbClr val="ff0000"/>
                </a:solidFill>
                <a:latin typeface="Courier New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Inhalt wird in der DTD definier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Schachtelung möglic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mgebungsbedingunge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y au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ei Fragen: fragen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Entities: Syntax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</a:rPr>
              <a:t>&lt;!ENTITY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name "inhalt"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</a:rPr>
              <a:t>&lt;!ENTITY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name SYSTEM "extern.xml"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</a:rPr>
              <a:t>&lt;!ENTITY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name SYSTEM "img.gif" NDATA gif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Beispie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</a:rPr>
              <a:t>&lt;!ENTITY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versionno '1.0.1'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</a:rPr>
              <a:t>&lt;!ENTITY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datum "2000-09-27"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</a:rPr>
              <a:t>&lt;!ENTITY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einleitung SYSTEM "./einl.xml"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</a:rPr>
              <a:t>&lt;!ENTITY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ver "&amp;versionno; &amp;datum; &amp;build;"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Parameter-Entiti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Sonderfall der Ent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Können nur innerhalb der DTD referenziert werd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Wiederverwendung von DTD-Teil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Eigener Namensrau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Eingeleitet durch Prozent-Zeich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Parameter-Entiti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ekla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</a:rPr>
              <a:t>&lt;!ENTITY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400" spc="-1" strike="noStrike">
                <a:solidFill>
                  <a:srgbClr val="3333cc"/>
                </a:solidFill>
                <a:latin typeface="Courier New"/>
              </a:rPr>
              <a:t>% generalattr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"id ID #IMPLIED"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Referen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</a:rPr>
              <a:t>&lt;!ATTRLIST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pa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h-align (l|c|r|b) 'b'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de-DE" sz="2400" spc="-1" strike="noStrike">
                <a:solidFill>
                  <a:srgbClr val="3333cc"/>
                </a:solidFill>
                <a:latin typeface="Courier New"/>
              </a:rPr>
              <a:t>%generalattr;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Parsed/Unparsed Entiti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Entities werden unterschieden i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Parsed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 E.: Ersetzungstext ist XM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Unparsed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 E.: kein XML (Bilder, Videos, Textverarbeitungs-Dokumente, usw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Unparsed E. bekommen eine </a:t>
            </a: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Notation</a:t>
            </a: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 zugewiesen (=Typ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Conditional Sec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Nur in externen DT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Abschnitte können ein- und ausgeblendet werd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Schachtelung möglic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682920" y="4572000"/>
            <a:ext cx="566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</a:rPr>
              <a:t>&lt;![INCLUDE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</a:rPr>
              <a:t>[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400" spc="-1" strike="noStrike">
                <a:solidFill>
                  <a:srgbClr val="808080"/>
                </a:solidFill>
                <a:latin typeface="Courier New"/>
              </a:rPr>
              <a:t>deklarationen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</a:rPr>
              <a:t>]]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</a:rPr>
              <a:t>&lt;![IGNORE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</a:rPr>
              <a:t>[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400" spc="-1" strike="noStrike">
                <a:solidFill>
                  <a:srgbClr val="808080"/>
                </a:solidFill>
                <a:latin typeface="Courier New"/>
              </a:rPr>
              <a:t>deklarationen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</a:rPr>
              <a:t>]]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1523520" y="5943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30400" y="5670720"/>
            <a:ext cx="604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eklaration als Parameter Entity mögl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980080" y="1523880"/>
            <a:ext cx="286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Verdana"/>
              </a:rPr>
              <a:t>Ausblick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DTD Ausblick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Probleme bei DTD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u wenig Möglichkeit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(z. B. keine Bereichs-Eingrenzu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Keine XML-Syntax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(eigener Parser erforderlich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Lösung: XML-SCHEMA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Viel mehr Optionen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XML-Syntax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Hohe Komplexitä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744280" y="1600200"/>
            <a:ext cx="3503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Verdana"/>
              </a:rPr>
              <a:t>Fragen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723040" y="1600200"/>
            <a:ext cx="313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Verdana"/>
              </a:rPr>
              <a:t>&lt;/talk&gt;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halts-Übersich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TD </a:t>
            </a: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– was ist da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Dekla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Bausteine der DT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Ausbli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83640" y="1752480"/>
            <a:ext cx="5900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Verdana"/>
              </a:rPr>
              <a:t>DTD </a:t>
            </a:r>
            <a:r>
              <a:rPr b="1" lang="de-DE" sz="5000" spc="-1" strike="noStrike">
                <a:solidFill>
                  <a:srgbClr val="000000"/>
                </a:solidFill>
                <a:latin typeface="Verdana"/>
              </a:rPr>
              <a:t>– was ist das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DT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XML definiert selbst keine Tags, Attribute oder Ent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ichtig für den Austausch von XML-Instanze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inhaltung gleicher Konvention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Verwendete Elemen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nt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truktur des Doku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TD = Syntax zur Festlegung solcher Konvention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Prüfung der Einhaltung der DTD durch „Validating Parser“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DT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DTD = Document Type Defin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Definiert den </a:t>
            </a:r>
            <a:r>
              <a:rPr b="0" i="1" lang="de-DE" sz="3200" spc="-1" strike="noStrike">
                <a:solidFill>
                  <a:srgbClr val="000000"/>
                </a:solidFill>
                <a:latin typeface="Verdana"/>
              </a:rPr>
              <a:t>Typ</a:t>
            </a: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 der XML-Applik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Erst die DTD beschreibt eine spezielle XML-Anwendung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26840" y="1600200"/>
            <a:ext cx="5464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Verdana"/>
              </a:rPr>
              <a:t>DTD-Deklara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DTD-Deklar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Eine DTD steht am Anfang des XML-Dokuments in der </a:t>
            </a:r>
            <a:r>
              <a:rPr b="0" i="1" lang="de-DE" sz="3200" spc="-1" strike="noStrike">
                <a:solidFill>
                  <a:srgbClr val="000000"/>
                </a:solidFill>
                <a:latin typeface="Verdana"/>
              </a:rPr>
              <a:t>Document Type Decla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Besteht aus speziellem Marku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DTD kann außerhalb des Dokuments liegen [External DTD]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Alternativ/zusätzlich dazu Deklarationen im Dokument selb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DTD-Deklar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"/>
          <p:cNvSpPr/>
          <p:nvPr/>
        </p:nvSpPr>
        <p:spPr>
          <a:xfrm>
            <a:off x="700560" y="1708200"/>
            <a:ext cx="765396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Syn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&lt;!DOCTYPE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000" spc="-1" strike="noStrike">
                <a:solidFill>
                  <a:srgbClr val="3333cc"/>
                </a:solidFill>
                <a:latin typeface="Courier New"/>
              </a:rPr>
              <a:t>name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de-DE" sz="2000" spc="-1" strike="noStrike">
                <a:solidFill>
                  <a:srgbClr val="808080"/>
                </a:solidFill>
                <a:latin typeface="Courier New"/>
              </a:rPr>
              <a:t>...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] 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&lt;!DOCTYPE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000" spc="-1" strike="noStrike">
                <a:solidFill>
                  <a:srgbClr val="3333cc"/>
                </a:solidFill>
                <a:latin typeface="Courier New"/>
              </a:rPr>
              <a:t>name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SYSTEM "externe.dtd“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de-DE" sz="2000" spc="-1" strike="noStrike">
                <a:solidFill>
                  <a:srgbClr val="808080"/>
                </a:solidFill>
                <a:latin typeface="Courier New"/>
              </a:rPr>
              <a:t>...interne Deklarationen...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] 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&lt;!DOCTYPE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000" spc="-1" strike="noStrike">
                <a:solidFill>
                  <a:srgbClr val="3333cc"/>
                </a:solidFill>
                <a:latin typeface="Courier New"/>
              </a:rPr>
              <a:t>name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PUBLIC "publicid" "externe.dtd" 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&gt;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96400" y="4952880"/>
            <a:ext cx="357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Nach dem XML-Pro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Vor dem Inha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6T17:09:26Z</dcterms:created>
  <dc:creator>Stefan Heymann</dc:creator>
  <dc:description/>
  <dc:language>en-US</dc:language>
  <cp:lastModifiedBy>Viktor Just</cp:lastModifiedBy>
  <dcterms:modified xsi:type="dcterms:W3CDTF">2001-09-25T06:06:30Z</dcterms:modified>
  <cp:revision>31</cp:revision>
  <dc:subject/>
  <dc:title>XML-Grundlagen</dc:title>
</cp:coreProperties>
</file>